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C96-93D7-4544-BA2E-2ED691553E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6003-D8ED-4E0C-ACEC-D5D9EAD5B5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D2F-4425-420E-B040-C8638D09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331-060E-4C7E-BB23-0BDB265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10F-4489-41D1-B792-DB81C547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FE4-F0E9-4EA5-8EE3-1DF23A7B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D62-AF2D-45F7-9486-9EAAACA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36A-2360-4AA4-AF97-DABBF43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2CC-A82B-4444-A606-8087D25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DBC-98F7-402B-990D-48DD676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414-EC88-4A51-8292-FC58245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552-95C7-43D0-9902-6986B5D2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BC8-D030-4874-B114-33D527A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75D-4A9D-4C30-944E-7B1DA21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3A9-ABCA-4422-BC7B-FB75587D0B3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068-4109-485B-B42F-29785009003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9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uso del manual de prevención del lavado de activos y financiación del terrorismo - Un enfoque práct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000" y="1557000"/>
            <a:ext cx="62960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98989"/>
                </a:solidFill>
                <a:latin typeface="Calibri"/>
              </a:rPr>
              <a:t>g) </a:t>
            </a:r>
            <a:r>
              <a:rPr b="1" lang="es-AR" sz="3200" spc="-1" strike="noStrike" u="sng">
                <a:solidFill>
                  <a:srgbClr val="898989"/>
                </a:solidFill>
                <a:uFillTx/>
                <a:latin typeface="Calibri"/>
              </a:rPr>
              <a:t>El proceso a seguir para atender los requerimientos de información efectuados por la autoridad compet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ey 25.246, art 14 inc. 1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Res 165/2011 U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BFA1-1B15-4720-94FB-FA9C4DCFFDE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60840"/>
          </a:xfrm>
          <a:prstGeom prst="rect">
            <a:avLst/>
          </a:prstGeom>
          <a:ln w="0">
            <a:noFill/>
          </a:ln>
        </p:spPr>
      </p:pic>
      <p:sp>
        <p:nvSpPr>
          <p:cNvPr id="11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74C-4614-40EE-9C08-D6A3EBE4740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4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FBC-1D2A-4433-83F5-E366FF3D6EA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4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  <p:sp>
        <p:nvSpPr>
          <p:cNvPr id="12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00A-8C0B-4D99-A261-3B7C6163244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4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  <p:sp>
        <p:nvSpPr>
          <p:cNvPr id="12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B7E-9222-49A3-8FFE-C735D17A05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amaño de la muestra- Res. 420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lección lista de circunstancias art. 21 Res. 65/2011 de la UIF. Pauta cualit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to muestra selección p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rite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est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FFF-65FC-4BF4-B311-EF800B2CBC3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tamaño de la muestra dependerá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naturaleza, riesgo y complejidad de las operaciones del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ambiente de Control Int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existencia de controles internos generales adecu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existencia o inexistencia de circunstancias, que deben ser especialmente valoradas, incluidas en el artículo 21 de la Res. 65/11 de la UI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33F-D479-4187-9ABD-15D2BA630B6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5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C40-DF0D-4E7F-9AAC-F59C8A8A48E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803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4 Marcador de contenido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5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 Rectángulo"/>
          <p:cNvSpPr/>
          <p:nvPr/>
        </p:nvSpPr>
        <p:spPr>
          <a:xfrm>
            <a:off x="5796000" y="2060640"/>
            <a:ext cx="252108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ocedimiento  Res 165/11 U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ABE-78F6-4825-9135-1E1146DDECC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5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 Rectángulo"/>
          <p:cNvSpPr/>
          <p:nvPr/>
        </p:nvSpPr>
        <p:spPr>
          <a:xfrm>
            <a:off x="5435640" y="1989000"/>
            <a:ext cx="2592360" cy="9352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ocedimiento según Guía -Ma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16D-7634-45BB-BE09-7EFDADC962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7 Marcador de contenido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65520"/>
          </a:xfrm>
          <a:prstGeom prst="rect">
            <a:avLst/>
          </a:prstGeom>
          <a:ln w="0">
            <a:noFill/>
          </a:ln>
        </p:spPr>
      </p:pic>
      <p:sp>
        <p:nvSpPr>
          <p:cNvPr id="6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2081-56B9-4BD7-BDBB-1D1C124CEC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7 Marcador de contenido" descr=""/>
          <p:cNvPicPr/>
          <p:nvPr/>
        </p:nvPicPr>
        <p:blipFill>
          <a:blip r:embed="rId1"/>
          <a:stretch/>
        </p:blipFill>
        <p:spPr>
          <a:xfrm>
            <a:off x="414360" y="1566720"/>
            <a:ext cx="8315280" cy="4559400"/>
          </a:xfrm>
          <a:prstGeom prst="rect">
            <a:avLst/>
          </a:prstGeom>
          <a:ln w="0">
            <a:noFill/>
          </a:ln>
        </p:spPr>
      </p:pic>
      <p:sp>
        <p:nvSpPr>
          <p:cNvPr id="6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557-412D-4CAD-8139-0D65856EBAE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br>
              <a:rPr sz="2800"/>
            </a:b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Firma Respuesta a la U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454960" cy="4522680"/>
          </a:xfrm>
          <a:prstGeom prst="rect">
            <a:avLst/>
          </a:prstGeom>
          <a:ln w="0">
            <a:noFill/>
          </a:ln>
        </p:spPr>
      </p:pic>
      <p:sp>
        <p:nvSpPr>
          <p:cNvPr id="7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 Flecha derecha"/>
          <p:cNvSpPr/>
          <p:nvPr/>
        </p:nvSpPr>
        <p:spPr>
          <a:xfrm>
            <a:off x="5651640" y="3645000"/>
            <a:ext cx="576000" cy="460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7 Flecha derecha"/>
          <p:cNvSpPr/>
          <p:nvPr/>
        </p:nvSpPr>
        <p:spPr>
          <a:xfrm>
            <a:off x="2916360" y="5157720"/>
            <a:ext cx="576000" cy="7164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8 Flecha derecha"/>
          <p:cNvSpPr/>
          <p:nvPr/>
        </p:nvSpPr>
        <p:spPr>
          <a:xfrm>
            <a:off x="5651640" y="5229360"/>
            <a:ext cx="576000" cy="460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B55-E1B0-496A-A0E4-A04554C53BE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Flecha derecha"/>
          <p:cNvSpPr/>
          <p:nvPr/>
        </p:nvSpPr>
        <p:spPr>
          <a:xfrm>
            <a:off x="2851200" y="3645000"/>
            <a:ext cx="576360" cy="71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l proceso a seguir para atender requerimi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ontador actúa solo como síndico societa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87360" indent="-38736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rá que procedió de acuerdo a las disposiciones de la FACPCE, punto 3.45 de la Resolución 420/201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87360" indent="-387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o de nota Anexo IV de la Guía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7360" indent="-38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860C-6110-4DCC-8B96-465F7C88B11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 la información que permitan detectar operaciones inusuales, considerar si son sospechosas y el procedimiento para el reporte a la UIF, en su cas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41AA-433D-4A48-ACD5-3BBFBACC4F4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4960" y="274320"/>
            <a:ext cx="788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 uso del manual de PLA/FT- Un enfoque prác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odologías y criterios para analizar y evalu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pie de página"/>
          <p:cNvSpPr/>
          <p:nvPr/>
        </p:nvSpPr>
        <p:spPr>
          <a:xfrm>
            <a:off x="3056040" y="64324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PCECABA 08 05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804960" y="1197000"/>
            <a:ext cx="1279440" cy="1068480"/>
          </a:xfrm>
          <a:prstGeom prst="ellipse">
            <a:avLst/>
          </a:prstGeom>
          <a:solidFill>
            <a:srgbClr val="95b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4"/>
          <p:cNvCxnSpPr/>
          <p:nvPr/>
        </p:nvCxnSpPr>
        <p:spPr>
          <a:xfrm>
            <a:off x="1442520" y="22111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AutoShape 6"/>
          <p:cNvSpPr/>
          <p:nvPr/>
        </p:nvSpPr>
        <p:spPr>
          <a:xfrm>
            <a:off x="6940440" y="2762280"/>
            <a:ext cx="1040040" cy="452520"/>
          </a:xfrm>
          <a:prstGeom prst="flowChartProcess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O BII 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076480" y="3013200"/>
            <a:ext cx="268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075360" y="300816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067200" y="2754360"/>
            <a:ext cx="5378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9640" y="2754360"/>
            <a:ext cx="53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11"/>
          <p:cNvCxnSpPr/>
          <p:nvPr/>
        </p:nvCxnSpPr>
        <p:spPr>
          <a:xfrm>
            <a:off x="1428480" y="352872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2"/>
          <p:cNvCxnSpPr/>
          <p:nvPr/>
        </p:nvCxnSpPr>
        <p:spPr>
          <a:xfrm>
            <a:off x="5466960" y="345564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13"/>
          <p:cNvSpPr/>
          <p:nvPr/>
        </p:nvSpPr>
        <p:spPr>
          <a:xfrm>
            <a:off x="731880" y="4098960"/>
            <a:ext cx="1349280" cy="1279440"/>
          </a:xfrm>
          <a:prstGeom prst="flowChartDecision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ctiv. Fuera de la Obl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933800" y="3805200"/>
            <a:ext cx="1041480" cy="453960"/>
          </a:xfrm>
          <a:prstGeom prst="flowChartProcess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O BI 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37240" y="3519360"/>
            <a:ext cx="53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541520" y="3921120"/>
            <a:ext cx="38412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112840" y="473868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948040" y="4444920"/>
            <a:ext cx="1041480" cy="453960"/>
          </a:xfrm>
          <a:prstGeom prst="flowChartProcess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O A  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2222640" y="4406760"/>
            <a:ext cx="53820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595520" y="5300640"/>
            <a:ext cx="3841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1413000" y="530712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792000" y="5592600"/>
            <a:ext cx="1314720" cy="717840"/>
          </a:xfrm>
          <a:prstGeom prst="flowChartProcess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vidades F. 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o BI 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 Anexo BII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757080" y="2568600"/>
            <a:ext cx="1354320" cy="931680"/>
          </a:xfrm>
          <a:prstGeom prst="flowChartDecision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jeto Oblig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4778280" y="2475000"/>
            <a:ext cx="1355760" cy="1065240"/>
          </a:xfrm>
          <a:prstGeom prst="flowChartDecision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uenta c/Polític. y Pr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 Rectángulo"/>
          <p:cNvSpPr/>
          <p:nvPr/>
        </p:nvSpPr>
        <p:spPr>
          <a:xfrm>
            <a:off x="5796000" y="5157720"/>
            <a:ext cx="2448000" cy="57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 Resolución 420/11 FACP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A97-F641-4EB2-9621-A1B9296C3F4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6:39:30Z</dcterms:created>
  <dc:creator>Monica</dc:creator>
  <dc:description/>
  <dc:language>en-US</dc:language>
  <cp:lastModifiedBy>rbarrionuevo</cp:lastModifiedBy>
  <cp:lastPrinted>2012-05-07T19:38:11Z</cp:lastPrinted>
  <dcterms:modified xsi:type="dcterms:W3CDTF">2012-05-22T21:02:12Z</dcterms:modified>
  <cp:revision>38</cp:revision>
  <dc:subject/>
  <dc:title>El uso del manual de prevención del lavado de activos y financiación del terrorismo - Un enfoque práctico</dc:title>
</cp:coreProperties>
</file>